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D05E-18E3-4563-A4AE-E97B30F7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D916-D485-4690-B493-6C5155B4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7B16-3829-4D80-B1C7-DC68F3B8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DF14-1BD3-4863-9636-C852E100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603B-C4CF-4412-8915-7EF180CA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C754-03E4-46E3-BF87-EFB9ADE9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78F6-B743-4724-BDAB-7BDC4CFF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1DC3-6F29-41DC-BD97-83474C26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4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7E04-6541-4422-B78B-9FD50D30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4EAE-C89A-46C6-AB6A-BAA25AC3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D524-D279-47D1-B3A8-2F5B22B4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FA5-8277-4372-AF81-31A5BFD3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1" marL="579240" indent="-22284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2" marL="89136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3" marL="12481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4" marL="16045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5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6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FD74-625E-4203-8813-62FD9D2A5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cc99"/>
                </a:solidFill>
                <a:latin typeface="CAC Futura Casual"/>
              </a:rPr>
              <a:t>Me llamo __________</a:t>
            </a:r>
            <a:r>
              <a:rPr b="0" lang="en-US" sz="3500" spc="-1" strike="noStrike">
                <a:solidFill>
                  <a:srgbClr val="00cc99"/>
                </a:solidFill>
                <a:latin typeface="CAC Futura Casual"/>
              </a:rPr>
              <a:t>	</a:t>
            </a:r>
            <a:r>
              <a:rPr b="0" lang="en-US" sz="3500" spc="-1" strike="noStrike">
                <a:solidFill>
                  <a:srgbClr val="00cc99"/>
                </a:solidFill>
                <a:latin typeface="CAC Futura Casual"/>
              </a:rPr>
              <a:t>       Clase 8 Nv</a:t>
            </a:r>
            <a:br>
              <a:rPr sz="3500"/>
            </a:br>
            <a:r>
              <a:rPr b="0" lang="en-US" sz="3500" spc="-1" strike="noStrike">
                <a:solidFill>
                  <a:srgbClr val="00cc99"/>
                </a:solidFill>
                <a:latin typeface="CAC Futura Casual"/>
              </a:rPr>
              <a:t>La fecha es el 6 de febrero del 2012</a:t>
            </a:r>
            <a:endParaRPr b="0" lang="en-US" sz="35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99"/>
                </a:solidFill>
                <a:latin typeface="CAC Futura Casual"/>
              </a:rPr>
              <a:t>Propósito # 36: 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¿</a:t>
            </a:r>
            <a:r>
              <a:rPr b="0" lang="es-ES_tradnl" sz="3200" spc="-1" strike="noStrike">
                <a:solidFill>
                  <a:srgbClr val="ff3399"/>
                </a:solidFill>
                <a:latin typeface="CAC Futura Casu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Como repasamos para la Prueba: U7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73109"/>
                </a:solidFill>
                <a:latin typeface="CAC Futura Casual"/>
              </a:rPr>
              <a:t>Actividad Inicial: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Escribe en español: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886200" y="40384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238880" y="4648320"/>
            <a:ext cx="1374840" cy="1380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209680" y="5181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5334120" y="3027240"/>
            <a:ext cx="1743120" cy="1544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8280" y="5257800"/>
            <a:ext cx="1607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on las 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enos di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800" y="4327560"/>
            <a:ext cx="1819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on las do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y 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8680" y="5334120"/>
            <a:ext cx="1748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on las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enos ci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7080" y="4495680"/>
            <a:ext cx="19335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on las tres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einte y ci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38880" y="3886200"/>
            <a:ext cx="17528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on las die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y cua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CAC Futura Casual"/>
              </a:rPr>
              <a:t>Repaso de la Tarea 33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-838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Workbook p. 68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B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Son las cuatro y cuarto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Son las tres menos diez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Son las cuatro y media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Son las tres y diez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Son las cuatro menos cinco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Son las cinco menos cuarto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5" name=""/>
          <p:cNvSpPr/>
          <p:nvPr/>
        </p:nvSpPr>
        <p:spPr>
          <a:xfrm>
            <a:off x="6326640" y="2438280"/>
            <a:ext cx="5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78920" y="2986200"/>
            <a:ext cx="5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74000" y="3581280"/>
            <a:ext cx="496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920" y="4129200"/>
            <a:ext cx="5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17000" y="4648320"/>
            <a:ext cx="5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0160" y="5195880"/>
            <a:ext cx="515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CAC Futura Casual"/>
              </a:rPr>
              <a:t>Repaso de la Tarea 33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D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10:25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1:13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7:50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4:15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12:40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11:05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8:45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6:30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3" name=""/>
          <p:cNvSpPr/>
          <p:nvPr/>
        </p:nvSpPr>
        <p:spPr>
          <a:xfrm>
            <a:off x="2612520" y="2193840"/>
            <a:ext cx="3614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on las diez y veinte y ci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13960" y="2727360"/>
            <a:ext cx="2187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s la una y tr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14680" y="3184560"/>
            <a:ext cx="3218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on las ocho menos di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13240" y="3641760"/>
            <a:ext cx="2994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on las cuatro y cua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13960" y="4175280"/>
            <a:ext cx="2992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s la una menos vei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14680" y="4648320"/>
            <a:ext cx="2695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on las once y ci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13600" y="5105520"/>
            <a:ext cx="3629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on las nueve menos cua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14320" y="5622840"/>
            <a:ext cx="266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on las seis 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CAC Futura Casual"/>
              </a:rPr>
              <a:t>Time of Day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AC Futura Casual"/>
              </a:rPr>
              <a:t>de la mañana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AC Futura Casual"/>
              </a:rPr>
              <a:t>de la tarde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AC Futura Casual"/>
              </a:rPr>
              <a:t>de la noche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3" name=""/>
          <p:cNvSpPr/>
          <p:nvPr/>
        </p:nvSpPr>
        <p:spPr>
          <a:xfrm>
            <a:off x="2201040" y="2438280"/>
            <a:ext cx="6080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A.M. </a:t>
            </a:r>
            <a:r>
              <a:rPr b="0" i="1" lang="es-ES_tradnl" sz="3200" spc="-1" strike="noStrike">
                <a:solidFill>
                  <a:srgbClr val="0000ff"/>
                </a:solidFill>
                <a:latin typeface="Times New Roman"/>
              </a:rPr>
              <a:t>(morning; 11:31pm-11:30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79160" y="4145040"/>
            <a:ext cx="5286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P.M. </a:t>
            </a:r>
            <a:r>
              <a:rPr b="0" i="1" lang="es-ES_tradnl" sz="3200" spc="-1" strike="noStrike">
                <a:solidFill>
                  <a:srgbClr val="0000ff"/>
                </a:solidFill>
                <a:latin typeface="Times New Roman"/>
              </a:rPr>
              <a:t>(day; 11:31am-6:30pm)</a:t>
            </a: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5592600"/>
            <a:ext cx="5029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P.M. </a:t>
            </a:r>
            <a:r>
              <a:rPr b="0" i="1" lang="es-ES_tradnl" sz="3200" spc="-1" strike="noStrike">
                <a:solidFill>
                  <a:srgbClr val="0000ff"/>
                </a:solidFill>
                <a:latin typeface="Times New Roman"/>
              </a:rPr>
              <a:t>(night; 6:31- 11:30p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Repaso en el tablero o pizarra para el examen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CAC Futura Casual"/>
              </a:rPr>
              <a:t>Exceptions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AC Futura Casual"/>
              </a:rPr>
              <a:t>12:00 </a:t>
            </a:r>
            <a:r>
              <a:rPr b="0" i="1" lang="es-ES_tradnl" sz="4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4400" spc="-1" strike="noStrike" u="sng">
                <a:solidFill>
                  <a:srgbClr val="ffffff"/>
                </a:solidFill>
                <a:uFillTx/>
                <a:latin typeface="Times New Roman"/>
              </a:rPr>
              <a:t>only</a:t>
            </a:r>
            <a:r>
              <a:rPr b="0" i="1" lang="es-ES_tradnl" sz="4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AC Futura Casual"/>
              </a:rPr>
              <a:t>Es la medianoche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AC Futura Casual"/>
              </a:rPr>
              <a:t>Es el mediodía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0" name=""/>
          <p:cNvSpPr/>
          <p:nvPr/>
        </p:nvSpPr>
        <p:spPr>
          <a:xfrm>
            <a:off x="1676160" y="3352680"/>
            <a:ext cx="3929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12:00am MID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09640" y="5059440"/>
            <a:ext cx="5148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12:00pm NOON </a:t>
            </a: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i="1" lang="es-ES_tradnl" sz="2400" spc="-1" strike="noStrike">
                <a:solidFill>
                  <a:srgbClr val="0000ff"/>
                </a:solidFill>
                <a:latin typeface="Times New Roman"/>
              </a:rPr>
              <a:t>mid-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CAC Futura Casual"/>
              </a:rPr>
              <a:t>Practica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Escribe en español: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1) 8:07 pm</a:t>
            </a: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2) 12:00 am</a:t>
            </a: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3) 1:15 pm</a:t>
            </a: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4) 7: 26 pm</a:t>
            </a: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5) 3:30 am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6) 5:38 am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7) 12:53 am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AC Futura Casual"/>
              </a:rPr>
              <a:t>8) 2:45 pm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4" name=""/>
          <p:cNvSpPr/>
          <p:nvPr/>
        </p:nvSpPr>
        <p:spPr>
          <a:xfrm>
            <a:off x="3152520" y="1812960"/>
            <a:ext cx="4164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on las ocho y siete de la no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0" y="2362320"/>
            <a:ext cx="2398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s la mediano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1200" y="2955960"/>
            <a:ext cx="3769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s la una y cuarto de la tar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1320" y="3505320"/>
            <a:ext cx="5069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on las siete y veinte y seis de la no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93120" y="4038480"/>
            <a:ext cx="4460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on las tres y media de la maña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2280" y="4556160"/>
            <a:ext cx="583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on las seis menos veinte y dos de la mañ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69440" y="5105520"/>
            <a:ext cx="4658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s la una menos siete de la maña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15360" y="5699160"/>
            <a:ext cx="4773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on las tres menos cuarto de la tar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CAC Futura Casual"/>
              </a:rPr>
              <a:t>Tarea # 14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Escribe en español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10: 58 am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12:00 pm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3:45 pm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11:03 am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7:57 am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9:30 pm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12:27pm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1:11 am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02:50:23Z</dcterms:created>
  <dc:creator>Helen Zumaeta</dc:creator>
  <dc:description/>
  <dc:language>en-US</dc:language>
  <cp:lastModifiedBy>NYCDOE</cp:lastModifiedBy>
  <dcterms:modified xsi:type="dcterms:W3CDTF">2012-02-06T16:53:19Z</dcterms:modified>
  <cp:revision>18</cp:revision>
  <dc:subject/>
  <dc:title>Me llamo __________        Clase 10 NM La fecha es el 16 de noviembre del 2011</dc:title>
</cp:coreProperties>
</file>